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gif" ContentType="image/gif"/>
  <Override PartName="/ppt/media/image8.gif" ContentType="image/gif"/>
  <Override PartName="/ppt/media/image7.gif" ContentType="image/gif"/>
  <Override PartName="/ppt/media/image6.gif" ContentType="image/gif"/>
  <Override PartName="/ppt/media/image5.gif" ContentType="image/gif"/>
  <Override PartName="/ppt/media/image4.gif" ContentType="image/gif"/>
  <Override PartName="/ppt/media/image3.gif" ContentType="image/gif"/>
  <Override PartName="/ppt/media/image12.jpeg" ContentType="image/jpeg"/>
  <Override PartName="/ppt/media/image11.png" ContentType="image/png"/>
  <Override PartName="/ppt/media/image19.jpeg" ContentType="image/jpeg"/>
  <Override PartName="/ppt/media/image2.gif" ContentType="image/gif"/>
  <Override PartName="/ppt/media/image10.png" ContentType="image/png"/>
  <Override PartName="/ppt/media/image25.png" ContentType="image/png"/>
  <Override PartName="/ppt/media/image24.png" ContentType="image/png"/>
  <Override PartName="/ppt/media/image23.jpeg" ContentType="image/jpeg"/>
  <Override PartName="/ppt/media/image22.png" ContentType="image/png"/>
  <Override PartName="/ppt/media/image1.gif" ContentType="image/gif"/>
  <Override PartName="/ppt/media/image21.png" ContentType="image/png"/>
  <Override PartName="/ppt/media/image20.jpeg" ContentType="image/jpeg"/>
  <Override PartName="/ppt/media/image18.png" ContentType="image/png"/>
  <Override PartName="/ppt/media/image15.jpeg" ContentType="image/jpeg"/>
  <Override PartName="/ppt/media/image26.png" ContentType="image/png"/>
  <Override PartName="/ppt/media/image17.jpeg" ContentType="image/jpeg"/>
  <Override PartName="/ppt/media/image14.png" ContentType="image/png"/>
  <Override PartName="/ppt/media/image1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D6D2-2F81-4D99-A0F3-83B23869D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6F1C-16E5-4440-AB6B-9679FB810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D779-781D-4C5E-9D3A-50733252F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9447-97B6-42C9-8CC8-E5793C433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B2D1-70BA-4A92-A6A9-DEF9D9F80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855E-A051-421D-8C7E-403365C8F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4905-56BB-4778-97F0-A4086CEFC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7CAF-F9C4-4799-A660-4B83F1769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34EA-DB13-49A9-AF89-692467339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3532-A350-43E5-80D4-71C4AE4E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2F57-4D27-48BE-94D4-0CBA602E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772A-D281-4820-97D0-335DFFB38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8FDB6-A2E0-45C1-91B5-F8D8EC0C46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image" Target="../media/image6.gif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pn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1.gif"/><Relationship Id="rId5" Type="http://schemas.openxmlformats.org/officeDocument/2006/relationships/image" Target="../media/image2.gif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pn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16.jpeg"/><Relationship Id="rId11" Type="http://schemas.openxmlformats.org/officeDocument/2006/relationships/image" Target="../media/image17.jpeg"/><Relationship Id="rId12" Type="http://schemas.openxmlformats.org/officeDocument/2006/relationships/image" Target="../media/image18.png"/><Relationship Id="rId13" Type="http://schemas.openxmlformats.org/officeDocument/2006/relationships/image" Target="../media/image19.jpe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20.jpeg"/><Relationship Id="rId5" Type="http://schemas.openxmlformats.org/officeDocument/2006/relationships/image" Target="../media/image15.jpe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60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32"/>
          <p:cNvSpPr/>
          <p:nvPr/>
        </p:nvSpPr>
        <p:spPr>
          <a:xfrm>
            <a:off x="2286000" y="500040"/>
            <a:ext cx="4286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ffffff"/>
                </a:solidFill>
                <a:latin typeface="Calibri"/>
              </a:rPr>
              <a:t>TP 3 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C:\Documents and Settings\slorentz1\Bureau\c.gif"/>
          <p:cNvPicPr/>
          <p:nvPr/>
        </p:nvPicPr>
        <p:blipFill>
          <a:blip r:embed="rId1"/>
          <a:stretch/>
        </p:blipFill>
        <p:spPr>
          <a:xfrm>
            <a:off x="20520" y="324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C:\Documents and Settings\slorentz1\Bureau\i.gif"/>
          <p:cNvPicPr/>
          <p:nvPr/>
        </p:nvPicPr>
        <p:blipFill>
          <a:blip r:embed="rId2"/>
          <a:stretch/>
        </p:blipFill>
        <p:spPr>
          <a:xfrm>
            <a:off x="539640" y="324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C:\Documents and Settings\slorentz1\Bureau\t.gif"/>
          <p:cNvPicPr/>
          <p:nvPr/>
        </p:nvPicPr>
        <p:blipFill>
          <a:blip r:embed="rId3"/>
          <a:stretch/>
        </p:blipFill>
        <p:spPr>
          <a:xfrm>
            <a:off x="1015920" y="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C:\Documents and Settings\slorentz1\Bureau\souris-ordinateur (13).gif"/>
          <p:cNvPicPr/>
          <p:nvPr/>
        </p:nvPicPr>
        <p:blipFill>
          <a:blip r:embed="rId4"/>
          <a:stretch/>
        </p:blipFill>
        <p:spPr>
          <a:xfrm>
            <a:off x="8163000" y="0"/>
            <a:ext cx="981000" cy="952560"/>
          </a:xfrm>
          <a:prstGeom prst="rect">
            <a:avLst/>
          </a:prstGeom>
          <a:ln w="0">
            <a:noFill/>
          </a:ln>
        </p:spPr>
      </p:pic>
      <p:grpSp>
        <p:nvGrpSpPr>
          <p:cNvPr id="46" name="Groupe 15"/>
          <p:cNvGrpSpPr/>
          <p:nvPr/>
        </p:nvGrpSpPr>
        <p:grpSpPr>
          <a:xfrm>
            <a:off x="2752560" y="1341360"/>
            <a:ext cx="3606840" cy="619200"/>
            <a:chOff x="2752560" y="1341360"/>
            <a:chExt cx="3606840" cy="619200"/>
          </a:xfrm>
        </p:grpSpPr>
        <p:pic>
          <p:nvPicPr>
            <p:cNvPr id="47" name="Picture 12" descr="C:\Documents and Settings\slorentz1\Bureau\i.gif"/>
            <p:cNvPicPr/>
            <p:nvPr/>
          </p:nvPicPr>
          <p:blipFill>
            <a:blip r:embed="rId5"/>
            <a:stretch/>
          </p:blipFill>
          <p:spPr>
            <a:xfrm>
              <a:off x="5302080" y="1341360"/>
              <a:ext cx="514080" cy="61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13" descr="C:\Documents and Settings\slorentz1\Bureau\s.gif"/>
            <p:cNvPicPr/>
            <p:nvPr/>
          </p:nvPicPr>
          <p:blipFill>
            <a:blip r:embed="rId6"/>
            <a:stretch/>
          </p:blipFill>
          <p:spPr>
            <a:xfrm>
              <a:off x="2752560" y="1341360"/>
              <a:ext cx="542880" cy="61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14" descr="C:\Documents and Settings\slorentz1\Bureau\o.gif"/>
            <p:cNvPicPr/>
            <p:nvPr/>
          </p:nvPicPr>
          <p:blipFill>
            <a:blip r:embed="rId7"/>
            <a:stretch/>
          </p:blipFill>
          <p:spPr>
            <a:xfrm>
              <a:off x="3274200" y="1341360"/>
              <a:ext cx="637920" cy="61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15" descr="C:\Documents and Settings\slorentz1\Bureau\u.gif"/>
            <p:cNvPicPr/>
            <p:nvPr/>
          </p:nvPicPr>
          <p:blipFill>
            <a:blip r:embed="rId8"/>
            <a:stretch/>
          </p:blipFill>
          <p:spPr>
            <a:xfrm>
              <a:off x="3882960" y="1341360"/>
              <a:ext cx="714240" cy="61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16" descr="C:\Documents and Settings\slorentz1\Bureau\r.gif"/>
            <p:cNvPicPr/>
            <p:nvPr/>
          </p:nvPicPr>
          <p:blipFill>
            <a:blip r:embed="rId9"/>
            <a:stretch/>
          </p:blipFill>
          <p:spPr>
            <a:xfrm>
              <a:off x="4597200" y="1341360"/>
              <a:ext cx="704880" cy="61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13" descr="C:\Documents and Settings\slorentz1\Bureau\s.gif"/>
            <p:cNvPicPr/>
            <p:nvPr/>
          </p:nvPicPr>
          <p:blipFill>
            <a:blip r:embed="rId10"/>
            <a:stretch/>
          </p:blipFill>
          <p:spPr>
            <a:xfrm>
              <a:off x="5816520" y="1341360"/>
              <a:ext cx="542880" cy="619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3" name="syphonie souris.mp3.WAV" descr=""/>
          <p:cNvPicPr/>
          <p:nvPr/>
        </p:nvPicPr>
        <p:blipFill>
          <a:blip r:embed="rId11"/>
          <a:stretch/>
        </p:blipFill>
        <p:spPr>
          <a:xfrm>
            <a:off x="4427640" y="1989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952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C:\Documents and Settings\slorentz1\Bureau\c.gif"/>
          <p:cNvPicPr/>
          <p:nvPr/>
        </p:nvPicPr>
        <p:blipFill>
          <a:blip r:embed="rId1"/>
          <a:stretch/>
        </p:blipFill>
        <p:spPr>
          <a:xfrm>
            <a:off x="20520" y="324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C:\Documents and Settings\slorentz1\Bureau\i.gif"/>
          <p:cNvPicPr/>
          <p:nvPr/>
        </p:nvPicPr>
        <p:blipFill>
          <a:blip r:embed="rId2"/>
          <a:stretch/>
        </p:blipFill>
        <p:spPr>
          <a:xfrm>
            <a:off x="539640" y="324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C:\Documents and Settings\slorentz1\Bureau\t.gif"/>
          <p:cNvPicPr/>
          <p:nvPr/>
        </p:nvPicPr>
        <p:blipFill>
          <a:blip r:embed="rId3"/>
          <a:stretch/>
        </p:blipFill>
        <p:spPr>
          <a:xfrm>
            <a:off x="1015920" y="0"/>
            <a:ext cx="476280" cy="714240"/>
          </a:xfrm>
          <a:prstGeom prst="rect">
            <a:avLst/>
          </a:prstGeom>
          <a:ln w="0">
            <a:noFill/>
          </a:ln>
        </p:spPr>
      </p:pic>
      <p:sp>
        <p:nvSpPr>
          <p:cNvPr id="57" name="ZoneTexte 22"/>
          <p:cNvSpPr/>
          <p:nvPr/>
        </p:nvSpPr>
        <p:spPr>
          <a:xfrm>
            <a:off x="0" y="836640"/>
            <a:ext cx="27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70c0"/>
                </a:solidFill>
                <a:latin typeface="Calibri"/>
              </a:rPr>
              <a:t>L’ « ancêtre » de la souris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4"/>
          <a:stretch/>
        </p:blipFill>
        <p:spPr>
          <a:xfrm>
            <a:off x="2752560" y="309600"/>
            <a:ext cx="1646280" cy="1606680"/>
          </a:xfrm>
          <a:prstGeom prst="rect">
            <a:avLst/>
          </a:prstGeom>
          <a:ln w="0">
            <a:noFill/>
          </a:ln>
        </p:spPr>
      </p:pic>
      <p:sp>
        <p:nvSpPr>
          <p:cNvPr id="59" name="ZoneTexte 26"/>
          <p:cNvSpPr/>
          <p:nvPr/>
        </p:nvSpPr>
        <p:spPr>
          <a:xfrm>
            <a:off x="0" y="3213000"/>
            <a:ext cx="17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a souris (2D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5"/>
          <a:stretch/>
        </p:blipFill>
        <p:spPr>
          <a:xfrm>
            <a:off x="2124000" y="2687760"/>
            <a:ext cx="1892520" cy="1419120"/>
          </a:xfrm>
          <a:prstGeom prst="rect">
            <a:avLst/>
          </a:prstGeom>
          <a:ln w="0">
            <a:noFill/>
          </a:ln>
        </p:spPr>
      </p:pic>
      <p:sp>
        <p:nvSpPr>
          <p:cNvPr id="61" name="ZoneTexte 28"/>
          <p:cNvSpPr/>
          <p:nvPr/>
        </p:nvSpPr>
        <p:spPr>
          <a:xfrm>
            <a:off x="4211640" y="3213000"/>
            <a:ext cx="17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a souris (3D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6"/>
          <a:stretch/>
        </p:blipFill>
        <p:spPr>
          <a:xfrm>
            <a:off x="6156360" y="2849400"/>
            <a:ext cx="2519280" cy="1095480"/>
          </a:xfrm>
          <a:prstGeom prst="rect">
            <a:avLst/>
          </a:prstGeom>
          <a:ln w="0">
            <a:noFill/>
          </a:ln>
        </p:spPr>
      </p:pic>
      <p:sp>
        <p:nvSpPr>
          <p:cNvPr id="63" name="ZoneTexte 36"/>
          <p:cNvSpPr/>
          <p:nvPr/>
        </p:nvSpPr>
        <p:spPr>
          <a:xfrm>
            <a:off x="-9360" y="5229360"/>
            <a:ext cx="263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e « futur » de la souri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7"/>
          <a:stretch/>
        </p:blipFill>
        <p:spPr>
          <a:xfrm>
            <a:off x="3070080" y="4699080"/>
            <a:ext cx="2743200" cy="1428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C:\Documents and Settings\slorentz1\Bureau\c.gif"/>
          <p:cNvPicPr/>
          <p:nvPr/>
        </p:nvPicPr>
        <p:blipFill>
          <a:blip r:embed="rId1"/>
          <a:stretch/>
        </p:blipFill>
        <p:spPr>
          <a:xfrm>
            <a:off x="20520" y="324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C:\Documents and Settings\slorentz1\Bureau\i.gif"/>
          <p:cNvPicPr/>
          <p:nvPr/>
        </p:nvPicPr>
        <p:blipFill>
          <a:blip r:embed="rId2"/>
          <a:stretch/>
        </p:blipFill>
        <p:spPr>
          <a:xfrm>
            <a:off x="539640" y="324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C:\Documents and Settings\slorentz1\Bureau\t.gif"/>
          <p:cNvPicPr/>
          <p:nvPr/>
        </p:nvPicPr>
        <p:blipFill>
          <a:blip r:embed="rId3"/>
          <a:stretch/>
        </p:blipFill>
        <p:spPr>
          <a:xfrm>
            <a:off x="1015920" y="0"/>
            <a:ext cx="476280" cy="71424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3"/>
          <p:cNvSpPr/>
          <p:nvPr/>
        </p:nvSpPr>
        <p:spPr>
          <a:xfrm>
            <a:off x="0" y="548244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Calibri"/>
              </a:rPr>
              <a:t>port PS/2 &gt; U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4"/>
          <p:cNvSpPr/>
          <p:nvPr/>
        </p:nvSpPr>
        <p:spPr>
          <a:xfrm>
            <a:off x="2520" y="5985720"/>
            <a:ext cx="186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Calibri"/>
              </a:rPr>
              <a:t>inventée en 1963</a:t>
            </a: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5"/>
          <p:cNvSpPr/>
          <p:nvPr/>
        </p:nvSpPr>
        <p:spPr>
          <a:xfrm>
            <a:off x="0" y="6490440"/>
            <a:ext cx="22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Douglas Engelba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ZoneTexte 26"/>
          <p:cNvSpPr/>
          <p:nvPr/>
        </p:nvSpPr>
        <p:spPr>
          <a:xfrm>
            <a:off x="0" y="3213000"/>
            <a:ext cx="17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a souris (2D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4"/>
          <a:stretch/>
        </p:blipFill>
        <p:spPr>
          <a:xfrm>
            <a:off x="2124000" y="2687760"/>
            <a:ext cx="1892520" cy="1419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C:\Documents and Settings\slorentz1\Bureau\c.gif"/>
          <p:cNvPicPr/>
          <p:nvPr/>
        </p:nvPicPr>
        <p:blipFill>
          <a:blip r:embed="rId1"/>
          <a:stretch/>
        </p:blipFill>
        <p:spPr>
          <a:xfrm>
            <a:off x="20520" y="324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C:\Documents and Settings\slorentz1\Bureau\i.gif"/>
          <p:cNvPicPr/>
          <p:nvPr/>
        </p:nvPicPr>
        <p:blipFill>
          <a:blip r:embed="rId2"/>
          <a:stretch/>
        </p:blipFill>
        <p:spPr>
          <a:xfrm>
            <a:off x="539640" y="324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C:\Documents and Settings\slorentz1\Bureau\t.gif"/>
          <p:cNvPicPr/>
          <p:nvPr/>
        </p:nvPicPr>
        <p:blipFill>
          <a:blip r:embed="rId3"/>
          <a:stretch/>
        </p:blipFill>
        <p:spPr>
          <a:xfrm>
            <a:off x="1015920" y="0"/>
            <a:ext cx="476280" cy="714240"/>
          </a:xfrm>
          <a:prstGeom prst="rect">
            <a:avLst/>
          </a:prstGeom>
          <a:ln w="0">
            <a:noFill/>
          </a:ln>
        </p:spPr>
      </p:pic>
      <p:sp>
        <p:nvSpPr>
          <p:cNvPr id="76" name="ZoneTexte 1"/>
          <p:cNvSpPr/>
          <p:nvPr/>
        </p:nvSpPr>
        <p:spPr>
          <a:xfrm>
            <a:off x="0" y="530280"/>
            <a:ext cx="382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odèles de souris existant et étudié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e 11"/>
          <p:cNvGrpSpPr/>
          <p:nvPr/>
        </p:nvGrpSpPr>
        <p:grpSpPr>
          <a:xfrm>
            <a:off x="-12600" y="987480"/>
            <a:ext cx="9156600" cy="1245960"/>
            <a:chOff x="-12600" y="987480"/>
            <a:chExt cx="9156600" cy="1245960"/>
          </a:xfrm>
        </p:grpSpPr>
        <p:grpSp>
          <p:nvGrpSpPr>
            <p:cNvPr id="78" name="Groupe 9"/>
            <p:cNvGrpSpPr/>
            <p:nvPr/>
          </p:nvGrpSpPr>
          <p:grpSpPr>
            <a:xfrm>
              <a:off x="-12600" y="987480"/>
              <a:ext cx="9156600" cy="1245960"/>
              <a:chOff x="-12600" y="987480"/>
              <a:chExt cx="9156600" cy="1245960"/>
            </a:xfrm>
          </p:grpSpPr>
          <p:sp>
            <p:nvSpPr>
              <p:cNvPr id="79" name="ZoneTexte 57"/>
              <p:cNvSpPr/>
              <p:nvPr/>
            </p:nvSpPr>
            <p:spPr>
              <a:xfrm>
                <a:off x="-12600" y="992160"/>
                <a:ext cx="1554840" cy="1241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ZoneTexte 58"/>
              <p:cNvSpPr/>
              <p:nvPr/>
            </p:nvSpPr>
            <p:spPr>
              <a:xfrm>
                <a:off x="1542240" y="987480"/>
                <a:ext cx="1520280" cy="1241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ZoneTexte 59"/>
              <p:cNvSpPr/>
              <p:nvPr/>
            </p:nvSpPr>
            <p:spPr>
              <a:xfrm>
                <a:off x="3062520" y="987480"/>
                <a:ext cx="1520280" cy="1241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ZoneTexte 60"/>
              <p:cNvSpPr/>
              <p:nvPr/>
            </p:nvSpPr>
            <p:spPr>
              <a:xfrm>
                <a:off x="6103440" y="987480"/>
                <a:ext cx="1520280" cy="1241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ZoneTexte 61"/>
              <p:cNvSpPr/>
              <p:nvPr/>
            </p:nvSpPr>
            <p:spPr>
              <a:xfrm>
                <a:off x="7623720" y="987480"/>
                <a:ext cx="1520280" cy="1241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ZoneTexte 62"/>
              <p:cNvSpPr/>
              <p:nvPr/>
            </p:nvSpPr>
            <p:spPr>
              <a:xfrm>
                <a:off x="4582800" y="992160"/>
                <a:ext cx="1520280" cy="1241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5" name="Image 64" descr=""/>
            <p:cNvPicPr/>
            <p:nvPr/>
          </p:nvPicPr>
          <p:blipFill>
            <a:blip r:embed="rId4"/>
            <a:stretch/>
          </p:blipFill>
          <p:spPr>
            <a:xfrm>
              <a:off x="247680" y="1033920"/>
              <a:ext cx="1033560" cy="114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Image 65" descr=""/>
            <p:cNvPicPr/>
            <p:nvPr/>
          </p:nvPicPr>
          <p:blipFill>
            <a:blip r:embed="rId5"/>
            <a:stretch/>
          </p:blipFill>
          <p:spPr>
            <a:xfrm>
              <a:off x="1754280" y="1033920"/>
              <a:ext cx="1033560" cy="114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Image 66" descr=""/>
            <p:cNvPicPr/>
            <p:nvPr/>
          </p:nvPicPr>
          <p:blipFill>
            <a:blip r:embed="rId6"/>
            <a:stretch/>
          </p:blipFill>
          <p:spPr>
            <a:xfrm>
              <a:off x="3321720" y="1033920"/>
              <a:ext cx="1080360" cy="115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5" descr=""/>
            <p:cNvPicPr/>
            <p:nvPr/>
          </p:nvPicPr>
          <p:blipFill>
            <a:blip r:embed="rId7"/>
            <a:srcRect l="0" t="10717" r="0" b="0"/>
            <a:stretch/>
          </p:blipFill>
          <p:spPr>
            <a:xfrm>
              <a:off x="4768200" y="1033920"/>
              <a:ext cx="1157760" cy="114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Image 68" descr=""/>
            <p:cNvPicPr/>
            <p:nvPr/>
          </p:nvPicPr>
          <p:blipFill>
            <a:blip r:embed="rId8"/>
            <a:stretch/>
          </p:blipFill>
          <p:spPr>
            <a:xfrm>
              <a:off x="6167520" y="1065960"/>
              <a:ext cx="1391760" cy="107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Image 69" descr=""/>
            <p:cNvPicPr/>
            <p:nvPr/>
          </p:nvPicPr>
          <p:blipFill>
            <a:blip r:embed="rId9"/>
            <a:stretch/>
          </p:blipFill>
          <p:spPr>
            <a:xfrm>
              <a:off x="7760160" y="1021320"/>
              <a:ext cx="1293480" cy="117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" name="ZoneTexte 2"/>
          <p:cNvSpPr/>
          <p:nvPr/>
        </p:nvSpPr>
        <p:spPr>
          <a:xfrm>
            <a:off x="291960" y="2241720"/>
            <a:ext cx="9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À bo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ZoneTexte 54"/>
          <p:cNvSpPr/>
          <p:nvPr/>
        </p:nvSpPr>
        <p:spPr>
          <a:xfrm>
            <a:off x="1792440" y="2227320"/>
            <a:ext cx="94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Optique U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ZoneTexte 55"/>
          <p:cNvSpPr/>
          <p:nvPr/>
        </p:nvSpPr>
        <p:spPr>
          <a:xfrm>
            <a:off x="3389400" y="2243160"/>
            <a:ext cx="9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aser U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ZoneTexte 56"/>
          <p:cNvSpPr/>
          <p:nvPr/>
        </p:nvSpPr>
        <p:spPr>
          <a:xfrm>
            <a:off x="4707000" y="2244600"/>
            <a:ext cx="12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Enrouleur U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oneTexte 57"/>
          <p:cNvSpPr/>
          <p:nvPr/>
        </p:nvSpPr>
        <p:spPr>
          <a:xfrm>
            <a:off x="6391440" y="224640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ns f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oneTexte 58"/>
          <p:cNvSpPr/>
          <p:nvPr/>
        </p:nvSpPr>
        <p:spPr>
          <a:xfrm>
            <a:off x="7934400" y="2232000"/>
            <a:ext cx="9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ns fil ni p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0"/>
          <a:stretch/>
        </p:blipFill>
        <p:spPr>
          <a:xfrm>
            <a:off x="2747880" y="4149720"/>
            <a:ext cx="3648240" cy="1585800"/>
          </a:xfrm>
          <a:prstGeom prst="rect">
            <a:avLst/>
          </a:prstGeom>
          <a:ln w="0">
            <a:noFill/>
          </a:ln>
        </p:spPr>
      </p:pic>
      <p:sp>
        <p:nvSpPr>
          <p:cNvPr id="98" name="ZoneTexte 59"/>
          <p:cNvSpPr/>
          <p:nvPr/>
        </p:nvSpPr>
        <p:spPr>
          <a:xfrm>
            <a:off x="3195720" y="5734080"/>
            <a:ext cx="27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Airmouse (souris en 3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ZoneTexte 60"/>
          <p:cNvSpPr/>
          <p:nvPr/>
        </p:nvSpPr>
        <p:spPr>
          <a:xfrm>
            <a:off x="3186000" y="377820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ouvelles technologie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3"/>
          <p:cNvSpPr/>
          <p:nvPr/>
        </p:nvSpPr>
        <p:spPr>
          <a:xfrm>
            <a:off x="0" y="11253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ouris optique : caméra (1500 i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D rouge -&gt; rebond -&gt; détection (CM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apteur CMOS -&gt; image -&gt;  D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 DSP : 18 M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C:\Documents and Settings\slorentz1\Bureau\c.gif"/>
          <p:cNvPicPr/>
          <p:nvPr/>
        </p:nvPicPr>
        <p:blipFill>
          <a:blip r:embed="rId1"/>
          <a:stretch/>
        </p:blipFill>
        <p:spPr>
          <a:xfrm>
            <a:off x="20520" y="324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C:\Documents and Settings\slorentz1\Bureau\i.gif"/>
          <p:cNvPicPr/>
          <p:nvPr/>
        </p:nvPicPr>
        <p:blipFill>
          <a:blip r:embed="rId2"/>
          <a:stretch/>
        </p:blipFill>
        <p:spPr>
          <a:xfrm>
            <a:off x="539640" y="324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C:\Documents and Settings\slorentz1\Bureau\t.gif"/>
          <p:cNvPicPr/>
          <p:nvPr/>
        </p:nvPicPr>
        <p:blipFill>
          <a:blip r:embed="rId3"/>
          <a:stretch/>
        </p:blipFill>
        <p:spPr>
          <a:xfrm>
            <a:off x="1015920" y="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"/>
          <p:cNvPicPr/>
          <p:nvPr/>
        </p:nvPicPr>
        <p:blipFill>
          <a:blip r:embed="rId4"/>
          <a:stretch/>
        </p:blipFill>
        <p:spPr>
          <a:xfrm>
            <a:off x="6991200" y="0"/>
            <a:ext cx="2152800" cy="5335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1158840" y="1268280"/>
          <a:ext cx="4853160" cy="4519800"/>
        </p:xfrm>
        <a:graphic>
          <a:graphicData uri="http://schemas.openxmlformats.org/drawingml/2006/table">
            <a:tbl>
              <a:tblPr/>
              <a:tblGrid>
                <a:gridCol w="1577880"/>
                <a:gridCol w="1403640"/>
                <a:gridCol w="1871640"/>
              </a:tblGrid>
              <a:tr h="927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ouris 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ix moyen (interne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8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À bo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€ - 6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9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que US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€ (simpl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91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ser US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9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rouleur US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€ - 35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9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ns f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buSzPct val="102812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ns fil ni p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buSzPct val="102812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06" name="ZoneTexte 7"/>
          <p:cNvSpPr/>
          <p:nvPr/>
        </p:nvSpPr>
        <p:spPr>
          <a:xfrm>
            <a:off x="1908000" y="252360"/>
            <a:ext cx="460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1f497d"/>
                </a:solidFill>
                <a:latin typeface="Calibri"/>
              </a:rPr>
              <a:t>Caractéristiques des souris 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C:\Documents and Settings\slorentz1\Bureau\c.gif"/>
          <p:cNvPicPr/>
          <p:nvPr/>
        </p:nvPicPr>
        <p:blipFill>
          <a:blip r:embed="rId4"/>
          <a:stretch/>
        </p:blipFill>
        <p:spPr>
          <a:xfrm>
            <a:off x="20520" y="324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C:\Documents and Settings\slorentz1\Bureau\i.gif"/>
          <p:cNvPicPr/>
          <p:nvPr/>
        </p:nvPicPr>
        <p:blipFill>
          <a:blip r:embed="rId5"/>
          <a:stretch/>
        </p:blipFill>
        <p:spPr>
          <a:xfrm>
            <a:off x="539640" y="324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C:\Documents and Settings\slorentz1\Bureau\t.gif"/>
          <p:cNvPicPr/>
          <p:nvPr/>
        </p:nvPicPr>
        <p:blipFill>
          <a:blip r:embed="rId6"/>
          <a:stretch/>
        </p:blipFill>
        <p:spPr>
          <a:xfrm>
            <a:off x="1015920" y="0"/>
            <a:ext cx="476280" cy="7142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3" descr="C:\Documents and Settings\slorentz1\Bureau\c.gif"/>
          <p:cNvPicPr/>
          <p:nvPr/>
        </p:nvPicPr>
        <p:blipFill>
          <a:blip r:embed="rId1"/>
          <a:stretch/>
        </p:blipFill>
        <p:spPr>
          <a:xfrm>
            <a:off x="20520" y="324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C:\Documents and Settings\slorentz1\Bureau\i.gif"/>
          <p:cNvPicPr/>
          <p:nvPr/>
        </p:nvPicPr>
        <p:blipFill>
          <a:blip r:embed="rId2"/>
          <a:stretch/>
        </p:blipFill>
        <p:spPr>
          <a:xfrm>
            <a:off x="539640" y="324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C:\Documents and Settings\slorentz1\Bureau\t.gif"/>
          <p:cNvPicPr/>
          <p:nvPr/>
        </p:nvPicPr>
        <p:blipFill>
          <a:blip r:embed="rId3"/>
          <a:stretch/>
        </p:blipFill>
        <p:spPr>
          <a:xfrm>
            <a:off x="1015920" y="0"/>
            <a:ext cx="476280" cy="71424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e 109"/>
          <p:cNvGrpSpPr/>
          <p:nvPr/>
        </p:nvGrpSpPr>
        <p:grpSpPr>
          <a:xfrm>
            <a:off x="108000" y="907920"/>
            <a:ext cx="9144000" cy="5545440"/>
            <a:chOff x="108000" y="907920"/>
            <a:chExt cx="9144000" cy="5545440"/>
          </a:xfrm>
        </p:grpSpPr>
        <p:pic>
          <p:nvPicPr>
            <p:cNvPr id="114" name="Image 64" descr=""/>
            <p:cNvPicPr/>
            <p:nvPr/>
          </p:nvPicPr>
          <p:blipFill>
            <a:blip r:embed="rId4"/>
            <a:stretch/>
          </p:blipFill>
          <p:spPr>
            <a:xfrm>
              <a:off x="108000" y="938520"/>
              <a:ext cx="864000" cy="960120"/>
            </a:xfrm>
            <a:prstGeom prst="rect">
              <a:avLst/>
            </a:prstGeom>
            <a:ln w="9360">
              <a:solidFill>
                <a:srgbClr val="38ff09"/>
              </a:solidFill>
              <a:miter/>
            </a:ln>
          </p:spPr>
        </p:pic>
        <p:pic>
          <p:nvPicPr>
            <p:cNvPr id="115" name="Image 65" descr=""/>
            <p:cNvPicPr/>
            <p:nvPr/>
          </p:nvPicPr>
          <p:blipFill>
            <a:blip r:embed="rId5"/>
            <a:stretch/>
          </p:blipFill>
          <p:spPr>
            <a:xfrm>
              <a:off x="1764000" y="938520"/>
              <a:ext cx="864000" cy="960120"/>
            </a:xfrm>
            <a:prstGeom prst="rect">
              <a:avLst/>
            </a:prstGeom>
            <a:ln w="9360">
              <a:solidFill>
                <a:srgbClr val="38ff09"/>
              </a:solidFill>
              <a:miter/>
            </a:ln>
          </p:spPr>
        </p:pic>
        <p:pic>
          <p:nvPicPr>
            <p:cNvPr id="116" name="Image 66" descr=""/>
            <p:cNvPicPr/>
            <p:nvPr/>
          </p:nvPicPr>
          <p:blipFill>
            <a:blip r:embed="rId6"/>
            <a:stretch/>
          </p:blipFill>
          <p:spPr>
            <a:xfrm>
              <a:off x="1796760" y="2088720"/>
              <a:ext cx="902880" cy="967680"/>
            </a:xfrm>
            <a:prstGeom prst="rect">
              <a:avLst/>
            </a:prstGeom>
            <a:ln w="9360">
              <a:solidFill>
                <a:srgbClr val="38ff09"/>
              </a:solidFill>
              <a:miter/>
            </a:ln>
          </p:spPr>
        </p:pic>
        <p:pic>
          <p:nvPicPr>
            <p:cNvPr id="117" name="Picture 5" descr=""/>
            <p:cNvPicPr/>
            <p:nvPr/>
          </p:nvPicPr>
          <p:blipFill>
            <a:blip r:embed="rId7"/>
            <a:srcRect l="0" t="10717" r="0" b="0"/>
            <a:stretch/>
          </p:blipFill>
          <p:spPr>
            <a:xfrm>
              <a:off x="1732320" y="3243240"/>
              <a:ext cx="967680" cy="960120"/>
            </a:xfrm>
            <a:prstGeom prst="rect">
              <a:avLst/>
            </a:prstGeom>
            <a:ln w="9360">
              <a:solidFill>
                <a:srgbClr val="38ff09"/>
              </a:solidFill>
              <a:miter/>
            </a:ln>
          </p:spPr>
        </p:pic>
        <p:pic>
          <p:nvPicPr>
            <p:cNvPr id="118" name="Image 68" descr=""/>
            <p:cNvPicPr/>
            <p:nvPr/>
          </p:nvPicPr>
          <p:blipFill>
            <a:blip r:embed="rId8"/>
            <a:stretch/>
          </p:blipFill>
          <p:spPr>
            <a:xfrm>
              <a:off x="1692000" y="4413240"/>
              <a:ext cx="1163160" cy="896400"/>
            </a:xfrm>
            <a:prstGeom prst="rect">
              <a:avLst/>
            </a:prstGeom>
            <a:ln w="9360">
              <a:solidFill>
                <a:srgbClr val="38ff09"/>
              </a:solidFill>
              <a:miter/>
            </a:ln>
          </p:spPr>
        </p:pic>
        <p:pic>
          <p:nvPicPr>
            <p:cNvPr id="119" name="Image 69" descr=""/>
            <p:cNvPicPr/>
            <p:nvPr/>
          </p:nvPicPr>
          <p:blipFill>
            <a:blip r:embed="rId9"/>
            <a:stretch/>
          </p:blipFill>
          <p:spPr>
            <a:xfrm>
              <a:off x="1762920" y="5469480"/>
              <a:ext cx="1080720" cy="983880"/>
            </a:xfrm>
            <a:prstGeom prst="rect">
              <a:avLst/>
            </a:prstGeom>
            <a:ln w="9360">
              <a:solidFill>
                <a:srgbClr val="38ff09"/>
              </a:solidFill>
              <a:miter/>
            </a:ln>
          </p:spPr>
        </p:pic>
        <p:pic>
          <p:nvPicPr>
            <p:cNvPr id="120" name="Image 65" descr=""/>
            <p:cNvPicPr/>
            <p:nvPr/>
          </p:nvPicPr>
          <p:blipFill>
            <a:blip r:embed="rId10"/>
            <a:stretch/>
          </p:blipFill>
          <p:spPr>
            <a:xfrm>
              <a:off x="108000" y="2090880"/>
              <a:ext cx="864000" cy="960120"/>
            </a:xfrm>
            <a:prstGeom prst="rect">
              <a:avLst/>
            </a:prstGeom>
            <a:ln w="9360">
              <a:solidFill>
                <a:srgbClr val="38ff09"/>
              </a:solidFill>
              <a:miter/>
            </a:ln>
          </p:spPr>
        </p:pic>
        <p:pic>
          <p:nvPicPr>
            <p:cNvPr id="121" name="Image 66" descr=""/>
            <p:cNvPicPr/>
            <p:nvPr/>
          </p:nvPicPr>
          <p:blipFill>
            <a:blip r:embed="rId11"/>
            <a:stretch/>
          </p:blipFill>
          <p:spPr>
            <a:xfrm>
              <a:off x="108000" y="3259800"/>
              <a:ext cx="902880" cy="967680"/>
            </a:xfrm>
            <a:prstGeom prst="rect">
              <a:avLst/>
            </a:prstGeom>
            <a:ln w="9360">
              <a:solidFill>
                <a:srgbClr val="38ff09"/>
              </a:solidFill>
              <a:miter/>
            </a:ln>
          </p:spPr>
        </p:pic>
        <p:pic>
          <p:nvPicPr>
            <p:cNvPr id="122" name="Picture 5" descr=""/>
            <p:cNvPicPr/>
            <p:nvPr/>
          </p:nvPicPr>
          <p:blipFill>
            <a:blip r:embed="rId12"/>
            <a:srcRect l="0" t="10717" r="0" b="0"/>
            <a:stretch/>
          </p:blipFill>
          <p:spPr>
            <a:xfrm>
              <a:off x="108000" y="4395600"/>
              <a:ext cx="967680" cy="960120"/>
            </a:xfrm>
            <a:prstGeom prst="rect">
              <a:avLst/>
            </a:prstGeom>
            <a:ln w="9360">
              <a:solidFill>
                <a:srgbClr val="38ff09"/>
              </a:solidFill>
              <a:miter/>
            </a:ln>
          </p:spPr>
        </p:pic>
        <p:pic>
          <p:nvPicPr>
            <p:cNvPr id="123" name="Image 68" descr=""/>
            <p:cNvPicPr/>
            <p:nvPr/>
          </p:nvPicPr>
          <p:blipFill>
            <a:blip r:embed="rId13"/>
            <a:stretch/>
          </p:blipFill>
          <p:spPr>
            <a:xfrm>
              <a:off x="108000" y="5493600"/>
              <a:ext cx="1163160" cy="896400"/>
            </a:xfrm>
            <a:prstGeom prst="rect">
              <a:avLst/>
            </a:prstGeom>
            <a:ln w="9360">
              <a:solidFill>
                <a:srgbClr val="38ff09"/>
              </a:solidFill>
              <a:miter/>
            </a:ln>
          </p:spPr>
        </p:pic>
        <p:sp>
          <p:nvSpPr>
            <p:cNvPr id="124" name="Plus 23"/>
            <p:cNvSpPr/>
            <p:nvPr/>
          </p:nvSpPr>
          <p:spPr>
            <a:xfrm>
              <a:off x="1071360" y="2365200"/>
              <a:ext cx="596880" cy="566640"/>
            </a:xfrm>
            <a:custGeom>
              <a:avLst/>
              <a:gdLst>
                <a:gd name="textAreaLeft" fmla="*/ 78840 w 596880"/>
                <a:gd name="textAreaRight" fmla="*/ 518040 w 596880"/>
                <a:gd name="textAreaTop" fmla="*/ 216720 h 566640"/>
                <a:gd name="textAreaBottom" fmla="*/ 349920 h 566640"/>
              </a:gdLst>
              <a:ahLst/>
              <a:rect l="textAreaLeft" t="textAreaTop" r="textAreaRight" b="textAreaBottom"/>
              <a:pathLst>
                <a:path w="596966" h="566685">
                  <a:moveTo>
                    <a:pt x="79128" y="216700"/>
                  </a:moveTo>
                  <a:lnTo>
                    <a:pt x="231841" y="216700"/>
                  </a:lnTo>
                  <a:lnTo>
                    <a:pt x="231841" y="75114"/>
                  </a:lnTo>
                  <a:lnTo>
                    <a:pt x="365125" y="75114"/>
                  </a:lnTo>
                  <a:lnTo>
                    <a:pt x="365125" y="216700"/>
                  </a:lnTo>
                  <a:lnTo>
                    <a:pt x="517838" y="216700"/>
                  </a:lnTo>
                  <a:lnTo>
                    <a:pt x="517838" y="349985"/>
                  </a:lnTo>
                  <a:lnTo>
                    <a:pt x="365125" y="349985"/>
                  </a:lnTo>
                  <a:lnTo>
                    <a:pt x="365125" y="491571"/>
                  </a:lnTo>
                  <a:lnTo>
                    <a:pt x="231841" y="491571"/>
                  </a:lnTo>
                  <a:lnTo>
                    <a:pt x="231841" y="349985"/>
                  </a:lnTo>
                  <a:lnTo>
                    <a:pt x="79128" y="349985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38ff0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Plus 24"/>
            <p:cNvSpPr/>
            <p:nvPr/>
          </p:nvSpPr>
          <p:spPr>
            <a:xfrm>
              <a:off x="1082520" y="4670640"/>
              <a:ext cx="596880" cy="565200"/>
            </a:xfrm>
            <a:custGeom>
              <a:avLst/>
              <a:gdLst>
                <a:gd name="textAreaLeft" fmla="*/ 78840 w 596880"/>
                <a:gd name="textAreaRight" fmla="*/ 518040 w 596880"/>
                <a:gd name="textAreaTop" fmla="*/ 216000 h 565200"/>
                <a:gd name="textAreaBottom" fmla="*/ 349200 h 565200"/>
              </a:gdLst>
              <a:ahLst/>
              <a:rect l="textAreaLeft" t="textAreaTop" r="textAreaRight" b="textAreaBottom"/>
              <a:pathLst>
                <a:path w="596966" h="565097">
                  <a:moveTo>
                    <a:pt x="79128" y="216093"/>
                  </a:moveTo>
                  <a:lnTo>
                    <a:pt x="232028" y="216093"/>
                  </a:lnTo>
                  <a:lnTo>
                    <a:pt x="232028" y="74904"/>
                  </a:lnTo>
                  <a:lnTo>
                    <a:pt x="364938" y="74904"/>
                  </a:lnTo>
                  <a:lnTo>
                    <a:pt x="364938" y="216093"/>
                  </a:lnTo>
                  <a:lnTo>
                    <a:pt x="517838" y="216093"/>
                  </a:lnTo>
                  <a:lnTo>
                    <a:pt x="517838" y="349004"/>
                  </a:lnTo>
                  <a:lnTo>
                    <a:pt x="364938" y="349004"/>
                  </a:lnTo>
                  <a:lnTo>
                    <a:pt x="364938" y="490193"/>
                  </a:lnTo>
                  <a:lnTo>
                    <a:pt x="232028" y="490193"/>
                  </a:lnTo>
                  <a:lnTo>
                    <a:pt x="232028" y="349004"/>
                  </a:lnTo>
                  <a:lnTo>
                    <a:pt x="79128" y="349004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38ff0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Plus 25"/>
            <p:cNvSpPr/>
            <p:nvPr/>
          </p:nvSpPr>
          <p:spPr>
            <a:xfrm>
              <a:off x="1054080" y="3517920"/>
              <a:ext cx="596880" cy="565200"/>
            </a:xfrm>
            <a:custGeom>
              <a:avLst/>
              <a:gdLst>
                <a:gd name="textAreaLeft" fmla="*/ 78840 w 596880"/>
                <a:gd name="textAreaRight" fmla="*/ 518040 w 596880"/>
                <a:gd name="textAreaTop" fmla="*/ 216000 h 565200"/>
                <a:gd name="textAreaBottom" fmla="*/ 349200 h 565200"/>
              </a:gdLst>
              <a:ahLst/>
              <a:rect l="textAreaLeft" t="textAreaTop" r="textAreaRight" b="textAreaBottom"/>
              <a:pathLst>
                <a:path w="596966" h="565097">
                  <a:moveTo>
                    <a:pt x="79128" y="216093"/>
                  </a:moveTo>
                  <a:lnTo>
                    <a:pt x="232028" y="216093"/>
                  </a:lnTo>
                  <a:lnTo>
                    <a:pt x="232028" y="74904"/>
                  </a:lnTo>
                  <a:lnTo>
                    <a:pt x="364938" y="74904"/>
                  </a:lnTo>
                  <a:lnTo>
                    <a:pt x="364938" y="216093"/>
                  </a:lnTo>
                  <a:lnTo>
                    <a:pt x="517838" y="216093"/>
                  </a:lnTo>
                  <a:lnTo>
                    <a:pt x="517838" y="349004"/>
                  </a:lnTo>
                  <a:lnTo>
                    <a:pt x="364938" y="349004"/>
                  </a:lnTo>
                  <a:lnTo>
                    <a:pt x="364938" y="490193"/>
                  </a:lnTo>
                  <a:lnTo>
                    <a:pt x="232028" y="490193"/>
                  </a:lnTo>
                  <a:lnTo>
                    <a:pt x="232028" y="349004"/>
                  </a:lnTo>
                  <a:lnTo>
                    <a:pt x="79128" y="349004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38ff0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Plus 26"/>
            <p:cNvSpPr/>
            <p:nvPr/>
          </p:nvSpPr>
          <p:spPr>
            <a:xfrm>
              <a:off x="1209600" y="5739120"/>
              <a:ext cx="595080" cy="566640"/>
            </a:xfrm>
            <a:custGeom>
              <a:avLst/>
              <a:gdLst>
                <a:gd name="textAreaLeft" fmla="*/ 78840 w 595080"/>
                <a:gd name="textAreaRight" fmla="*/ 516240 w 595080"/>
                <a:gd name="textAreaTop" fmla="*/ 216720 h 566640"/>
                <a:gd name="textAreaBottom" fmla="*/ 349920 h 566640"/>
              </a:gdLst>
              <a:ahLst/>
              <a:rect l="textAreaLeft" t="textAreaTop" r="textAreaRight" b="textAreaBottom"/>
              <a:pathLst>
                <a:path w="595379" h="566684">
                  <a:moveTo>
                    <a:pt x="78917" y="216700"/>
                  </a:moveTo>
                  <a:lnTo>
                    <a:pt x="231047" y="216700"/>
                  </a:lnTo>
                  <a:lnTo>
                    <a:pt x="231047" y="75114"/>
                  </a:lnTo>
                  <a:lnTo>
                    <a:pt x="364332" y="75114"/>
                  </a:lnTo>
                  <a:lnTo>
                    <a:pt x="364332" y="216700"/>
                  </a:lnTo>
                  <a:lnTo>
                    <a:pt x="516462" y="216700"/>
                  </a:lnTo>
                  <a:lnTo>
                    <a:pt x="516462" y="349984"/>
                  </a:lnTo>
                  <a:lnTo>
                    <a:pt x="364332" y="349984"/>
                  </a:lnTo>
                  <a:lnTo>
                    <a:pt x="364332" y="491570"/>
                  </a:lnTo>
                  <a:lnTo>
                    <a:pt x="231047" y="491570"/>
                  </a:lnTo>
                  <a:lnTo>
                    <a:pt x="231047" y="349984"/>
                  </a:lnTo>
                  <a:lnTo>
                    <a:pt x="78917" y="349984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38ff0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Égal 27"/>
            <p:cNvSpPr/>
            <p:nvPr/>
          </p:nvSpPr>
          <p:spPr>
            <a:xfrm>
              <a:off x="2987640" y="1195200"/>
              <a:ext cx="576000" cy="288720"/>
            </a:xfrm>
            <a:custGeom>
              <a:avLst/>
              <a:gdLst>
                <a:gd name="textAreaLeft" fmla="*/ 76320 w 576000"/>
                <a:gd name="textAreaRight" fmla="*/ 499680 w 576000"/>
                <a:gd name="textAreaTop" fmla="*/ 59400 h 288720"/>
                <a:gd name="textAreaBottom" fmla="*/ 229320 h 288720"/>
              </a:gdLst>
              <a:ahLst/>
              <a:rect l="textAreaLeft" t="textAreaTop" r="textAreaRight" b="textAreaBottom"/>
              <a:pathLst>
                <a:path w="576327" h="288898">
                  <a:moveTo>
                    <a:pt x="76392" y="59513"/>
                  </a:moveTo>
                  <a:lnTo>
                    <a:pt x="499935" y="59513"/>
                  </a:lnTo>
                  <a:lnTo>
                    <a:pt x="499935" y="127462"/>
                  </a:lnTo>
                  <a:lnTo>
                    <a:pt x="76392" y="127462"/>
                  </a:lnTo>
                  <a:close/>
                  <a:moveTo>
                    <a:pt x="76392" y="161436"/>
                  </a:moveTo>
                  <a:lnTo>
                    <a:pt x="499935" y="161436"/>
                  </a:lnTo>
                  <a:lnTo>
                    <a:pt x="499935" y="229385"/>
                  </a:lnTo>
                  <a:lnTo>
                    <a:pt x="76392" y="229385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38ff0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Égal 28"/>
            <p:cNvSpPr/>
            <p:nvPr/>
          </p:nvSpPr>
          <p:spPr>
            <a:xfrm>
              <a:off x="2987640" y="2347920"/>
              <a:ext cx="576000" cy="288720"/>
            </a:xfrm>
            <a:custGeom>
              <a:avLst/>
              <a:gdLst>
                <a:gd name="textAreaLeft" fmla="*/ 76320 w 576000"/>
                <a:gd name="textAreaRight" fmla="*/ 499680 w 576000"/>
                <a:gd name="textAreaTop" fmla="*/ 59400 h 288720"/>
                <a:gd name="textAreaBottom" fmla="*/ 229320 h 288720"/>
              </a:gdLst>
              <a:ahLst/>
              <a:rect l="textAreaLeft" t="textAreaTop" r="textAreaRight" b="textAreaBottom"/>
              <a:pathLst>
                <a:path w="576327" h="288898">
                  <a:moveTo>
                    <a:pt x="76392" y="59513"/>
                  </a:moveTo>
                  <a:lnTo>
                    <a:pt x="499935" y="59513"/>
                  </a:lnTo>
                  <a:lnTo>
                    <a:pt x="499935" y="127462"/>
                  </a:lnTo>
                  <a:lnTo>
                    <a:pt x="76392" y="127462"/>
                  </a:lnTo>
                  <a:close/>
                  <a:moveTo>
                    <a:pt x="76392" y="161436"/>
                  </a:moveTo>
                  <a:lnTo>
                    <a:pt x="499935" y="161436"/>
                  </a:lnTo>
                  <a:lnTo>
                    <a:pt x="499935" y="229385"/>
                  </a:lnTo>
                  <a:lnTo>
                    <a:pt x="76392" y="229385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38ff0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Égal 29"/>
            <p:cNvSpPr/>
            <p:nvPr/>
          </p:nvSpPr>
          <p:spPr>
            <a:xfrm>
              <a:off x="2987640" y="3500280"/>
              <a:ext cx="576000" cy="288720"/>
            </a:xfrm>
            <a:custGeom>
              <a:avLst/>
              <a:gdLst>
                <a:gd name="textAreaLeft" fmla="*/ 76320 w 576000"/>
                <a:gd name="textAreaRight" fmla="*/ 499680 w 576000"/>
                <a:gd name="textAreaTop" fmla="*/ 59400 h 288720"/>
                <a:gd name="textAreaBottom" fmla="*/ 229320 h 288720"/>
              </a:gdLst>
              <a:ahLst/>
              <a:rect l="textAreaLeft" t="textAreaTop" r="textAreaRight" b="textAreaBottom"/>
              <a:pathLst>
                <a:path w="576327" h="288898">
                  <a:moveTo>
                    <a:pt x="76392" y="59513"/>
                  </a:moveTo>
                  <a:lnTo>
                    <a:pt x="499935" y="59513"/>
                  </a:lnTo>
                  <a:lnTo>
                    <a:pt x="499935" y="127462"/>
                  </a:lnTo>
                  <a:lnTo>
                    <a:pt x="76392" y="127462"/>
                  </a:lnTo>
                  <a:close/>
                  <a:moveTo>
                    <a:pt x="76392" y="161436"/>
                  </a:moveTo>
                  <a:lnTo>
                    <a:pt x="499935" y="161436"/>
                  </a:lnTo>
                  <a:lnTo>
                    <a:pt x="499935" y="229385"/>
                  </a:lnTo>
                  <a:lnTo>
                    <a:pt x="76392" y="229385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38ff0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Égal 30"/>
            <p:cNvSpPr/>
            <p:nvPr/>
          </p:nvSpPr>
          <p:spPr>
            <a:xfrm>
              <a:off x="2987640" y="4653000"/>
              <a:ext cx="576000" cy="287280"/>
            </a:xfrm>
            <a:custGeom>
              <a:avLst/>
              <a:gdLst>
                <a:gd name="textAreaLeft" fmla="*/ 76320 w 576000"/>
                <a:gd name="textAreaRight" fmla="*/ 499680 w 576000"/>
                <a:gd name="textAreaTop" fmla="*/ 59040 h 287280"/>
                <a:gd name="textAreaBottom" fmla="*/ 228240 h 287280"/>
              </a:gdLst>
              <a:ahLst/>
              <a:rect l="textAreaLeft" t="textAreaTop" r="textAreaRight" b="textAreaBottom"/>
              <a:pathLst>
                <a:path w="576327" h="287310">
                  <a:moveTo>
                    <a:pt x="76392" y="59186"/>
                  </a:moveTo>
                  <a:lnTo>
                    <a:pt x="499935" y="59186"/>
                  </a:lnTo>
                  <a:lnTo>
                    <a:pt x="499935" y="126761"/>
                  </a:lnTo>
                  <a:lnTo>
                    <a:pt x="76392" y="126761"/>
                  </a:lnTo>
                  <a:close/>
                  <a:moveTo>
                    <a:pt x="76392" y="160549"/>
                  </a:moveTo>
                  <a:lnTo>
                    <a:pt x="499935" y="160549"/>
                  </a:lnTo>
                  <a:lnTo>
                    <a:pt x="499935" y="228124"/>
                  </a:lnTo>
                  <a:lnTo>
                    <a:pt x="76392" y="228124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38ff0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Égal 31"/>
            <p:cNvSpPr/>
            <p:nvPr/>
          </p:nvSpPr>
          <p:spPr>
            <a:xfrm>
              <a:off x="2987640" y="5732640"/>
              <a:ext cx="576000" cy="288720"/>
            </a:xfrm>
            <a:custGeom>
              <a:avLst/>
              <a:gdLst>
                <a:gd name="textAreaLeft" fmla="*/ 76320 w 576000"/>
                <a:gd name="textAreaRight" fmla="*/ 499680 w 576000"/>
                <a:gd name="textAreaTop" fmla="*/ 59400 h 288720"/>
                <a:gd name="textAreaBottom" fmla="*/ 229320 h 288720"/>
              </a:gdLst>
              <a:ahLst/>
              <a:rect l="textAreaLeft" t="textAreaTop" r="textAreaRight" b="textAreaBottom"/>
              <a:pathLst>
                <a:path w="576327" h="288898">
                  <a:moveTo>
                    <a:pt x="76392" y="59513"/>
                  </a:moveTo>
                  <a:lnTo>
                    <a:pt x="499935" y="59513"/>
                  </a:lnTo>
                  <a:lnTo>
                    <a:pt x="499935" y="127462"/>
                  </a:lnTo>
                  <a:lnTo>
                    <a:pt x="76392" y="127462"/>
                  </a:lnTo>
                  <a:close/>
                  <a:moveTo>
                    <a:pt x="76392" y="161436"/>
                  </a:moveTo>
                  <a:lnTo>
                    <a:pt x="499935" y="161436"/>
                  </a:lnTo>
                  <a:lnTo>
                    <a:pt x="499935" y="229385"/>
                  </a:lnTo>
                  <a:lnTo>
                    <a:pt x="76392" y="229385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38ff0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32"/>
            <p:cNvSpPr/>
            <p:nvPr/>
          </p:nvSpPr>
          <p:spPr>
            <a:xfrm>
              <a:off x="3636000" y="907920"/>
              <a:ext cx="2088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00"/>
                  </a:solidFill>
                  <a:latin typeface="Calibri"/>
                </a:rPr>
                <a:t>Feed-back 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00"/>
                  </a:solidFill>
                  <a:latin typeface="Calibri"/>
                </a:rPr>
                <a:t>Remplacement système mécaniq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33"/>
            <p:cNvSpPr/>
            <p:nvPr/>
          </p:nvSpPr>
          <p:spPr>
            <a:xfrm>
              <a:off x="3564000" y="2204280"/>
              <a:ext cx="180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00"/>
                  </a:solidFill>
                  <a:latin typeface="Calibri"/>
                </a:rPr>
                <a:t>Changement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fr-FR" sz="1800" spc="-1" strike="noStrike">
                  <a:solidFill>
                    <a:srgbClr val="ffff00"/>
                  </a:solidFill>
                  <a:latin typeface="Calibri"/>
                </a:rPr>
                <a:t>de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fr-FR" sz="1800" spc="-1" strike="noStrike">
                  <a:solidFill>
                    <a:srgbClr val="ffff00"/>
                  </a:solidFill>
                  <a:latin typeface="Calibri"/>
                </a:rPr>
                <a:t>paramèt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34"/>
            <p:cNvSpPr/>
            <p:nvPr/>
          </p:nvSpPr>
          <p:spPr>
            <a:xfrm>
              <a:off x="3571920" y="3428640"/>
              <a:ext cx="124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00"/>
                  </a:solidFill>
                  <a:latin typeface="Calibri"/>
                </a:rPr>
                <a:t>Self-serv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35"/>
            <p:cNvSpPr/>
            <p:nvPr/>
          </p:nvSpPr>
          <p:spPr>
            <a:xfrm>
              <a:off x="3513600" y="4509000"/>
              <a:ext cx="223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00"/>
                  </a:solidFill>
                  <a:latin typeface="Calibri"/>
                </a:rPr>
                <a:t>Remplacement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fr-FR" sz="1800" spc="-1" strike="noStrike">
                  <a:solidFill>
                    <a:srgbClr val="ffff00"/>
                  </a:solidFill>
                  <a:latin typeface="Calibri"/>
                </a:rPr>
                <a:t>d’un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fr-FR" sz="1800" spc="-1" strike="noStrike">
                  <a:solidFill>
                    <a:srgbClr val="ffff00"/>
                  </a:solidFill>
                  <a:latin typeface="Calibri"/>
                </a:rPr>
                <a:t>système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fr-FR" sz="1800" spc="-1" strike="noStrike">
                  <a:solidFill>
                    <a:srgbClr val="ffff00"/>
                  </a:solidFill>
                  <a:latin typeface="Calibri"/>
                </a:rPr>
                <a:t>mécaniq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36"/>
            <p:cNvSpPr/>
            <p:nvPr/>
          </p:nvSpPr>
          <p:spPr>
            <a:xfrm>
              <a:off x="3564000" y="5589360"/>
              <a:ext cx="170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00"/>
                  </a:solidFill>
                  <a:latin typeface="Calibri"/>
                </a:rPr>
                <a:t>Universalit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00"/>
                  </a:solidFill>
                  <a:latin typeface="Calibri"/>
                </a:rPr>
                <a:t>Feedba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Égal 37"/>
            <p:cNvSpPr/>
            <p:nvPr/>
          </p:nvSpPr>
          <p:spPr>
            <a:xfrm>
              <a:off x="5580000" y="1195200"/>
              <a:ext cx="576000" cy="288720"/>
            </a:xfrm>
            <a:custGeom>
              <a:avLst/>
              <a:gdLst>
                <a:gd name="textAreaLeft" fmla="*/ 76320 w 576000"/>
                <a:gd name="textAreaRight" fmla="*/ 499680 w 576000"/>
                <a:gd name="textAreaTop" fmla="*/ 59400 h 288720"/>
                <a:gd name="textAreaBottom" fmla="*/ 229320 h 288720"/>
              </a:gdLst>
              <a:ahLst/>
              <a:rect l="textAreaLeft" t="textAreaTop" r="textAreaRight" b="textAreaBottom"/>
              <a:pathLst>
                <a:path w="576326" h="288898">
                  <a:moveTo>
                    <a:pt x="76392" y="59513"/>
                  </a:moveTo>
                  <a:lnTo>
                    <a:pt x="499934" y="59513"/>
                  </a:lnTo>
                  <a:lnTo>
                    <a:pt x="499934" y="127462"/>
                  </a:lnTo>
                  <a:lnTo>
                    <a:pt x="76392" y="127462"/>
                  </a:lnTo>
                  <a:close/>
                  <a:moveTo>
                    <a:pt x="76392" y="161436"/>
                  </a:moveTo>
                  <a:lnTo>
                    <a:pt x="499934" y="161436"/>
                  </a:lnTo>
                  <a:lnTo>
                    <a:pt x="499934" y="229385"/>
                  </a:lnTo>
                  <a:lnTo>
                    <a:pt x="76392" y="229385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38ff0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Égal 40"/>
            <p:cNvSpPr/>
            <p:nvPr/>
          </p:nvSpPr>
          <p:spPr>
            <a:xfrm>
              <a:off x="5580000" y="4653000"/>
              <a:ext cx="576000" cy="287280"/>
            </a:xfrm>
            <a:custGeom>
              <a:avLst/>
              <a:gdLst>
                <a:gd name="textAreaLeft" fmla="*/ 76320 w 576000"/>
                <a:gd name="textAreaRight" fmla="*/ 499680 w 576000"/>
                <a:gd name="textAreaTop" fmla="*/ 59040 h 287280"/>
                <a:gd name="textAreaBottom" fmla="*/ 228240 h 287280"/>
              </a:gdLst>
              <a:ahLst/>
              <a:rect l="textAreaLeft" t="textAreaTop" r="textAreaRight" b="textAreaBottom"/>
              <a:pathLst>
                <a:path w="576326" h="287310">
                  <a:moveTo>
                    <a:pt x="76392" y="59186"/>
                  </a:moveTo>
                  <a:lnTo>
                    <a:pt x="499934" y="59186"/>
                  </a:lnTo>
                  <a:lnTo>
                    <a:pt x="499934" y="126761"/>
                  </a:lnTo>
                  <a:lnTo>
                    <a:pt x="76392" y="126761"/>
                  </a:lnTo>
                  <a:close/>
                  <a:moveTo>
                    <a:pt x="76392" y="160549"/>
                  </a:moveTo>
                  <a:lnTo>
                    <a:pt x="499934" y="160549"/>
                  </a:lnTo>
                  <a:lnTo>
                    <a:pt x="499934" y="228124"/>
                  </a:lnTo>
                  <a:lnTo>
                    <a:pt x="76392" y="228124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38ff0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Égal 41"/>
            <p:cNvSpPr/>
            <p:nvPr/>
          </p:nvSpPr>
          <p:spPr>
            <a:xfrm>
              <a:off x="5580000" y="5732640"/>
              <a:ext cx="576000" cy="288720"/>
            </a:xfrm>
            <a:custGeom>
              <a:avLst/>
              <a:gdLst>
                <a:gd name="textAreaLeft" fmla="*/ 76320 w 576000"/>
                <a:gd name="textAreaRight" fmla="*/ 499680 w 576000"/>
                <a:gd name="textAreaTop" fmla="*/ 59400 h 288720"/>
                <a:gd name="textAreaBottom" fmla="*/ 229320 h 288720"/>
              </a:gdLst>
              <a:ahLst/>
              <a:rect l="textAreaLeft" t="textAreaTop" r="textAreaRight" b="textAreaBottom"/>
              <a:pathLst>
                <a:path w="576326" h="288898">
                  <a:moveTo>
                    <a:pt x="76392" y="59513"/>
                  </a:moveTo>
                  <a:lnTo>
                    <a:pt x="499934" y="59513"/>
                  </a:lnTo>
                  <a:lnTo>
                    <a:pt x="499934" y="127462"/>
                  </a:lnTo>
                  <a:lnTo>
                    <a:pt x="76392" y="127462"/>
                  </a:lnTo>
                  <a:close/>
                  <a:moveTo>
                    <a:pt x="76392" y="161436"/>
                  </a:moveTo>
                  <a:lnTo>
                    <a:pt x="499934" y="161436"/>
                  </a:lnTo>
                  <a:lnTo>
                    <a:pt x="499934" y="229385"/>
                  </a:lnTo>
                  <a:lnTo>
                    <a:pt x="76392" y="229385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38ff0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98"/>
            <p:cNvSpPr/>
            <p:nvPr/>
          </p:nvSpPr>
          <p:spPr>
            <a:xfrm>
              <a:off x="6161040" y="11239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Loi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99"/>
            <p:cNvSpPr/>
            <p:nvPr/>
          </p:nvSpPr>
          <p:spPr>
            <a:xfrm>
              <a:off x="6089040" y="46530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Loi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100"/>
            <p:cNvSpPr/>
            <p:nvPr/>
          </p:nvSpPr>
          <p:spPr>
            <a:xfrm>
              <a:off x="6084000" y="5589360"/>
              <a:ext cx="316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Loi 5 (consommation d’énergi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Loi 8 (changement de pile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Plus 108"/>
            <p:cNvSpPr/>
            <p:nvPr/>
          </p:nvSpPr>
          <p:spPr>
            <a:xfrm>
              <a:off x="1044360" y="1052280"/>
              <a:ext cx="595080" cy="565200"/>
            </a:xfrm>
            <a:custGeom>
              <a:avLst/>
              <a:gdLst>
                <a:gd name="textAreaLeft" fmla="*/ 78840 w 595080"/>
                <a:gd name="textAreaRight" fmla="*/ 516240 w 595080"/>
                <a:gd name="textAreaTop" fmla="*/ 216000 h 565200"/>
                <a:gd name="textAreaBottom" fmla="*/ 349200 h 565200"/>
              </a:gdLst>
              <a:ahLst/>
              <a:rect l="textAreaLeft" t="textAreaTop" r="textAreaRight" b="textAreaBottom"/>
              <a:pathLst>
                <a:path w="595379" h="565097">
                  <a:moveTo>
                    <a:pt x="78917" y="216093"/>
                  </a:moveTo>
                  <a:lnTo>
                    <a:pt x="231234" y="216093"/>
                  </a:lnTo>
                  <a:lnTo>
                    <a:pt x="231234" y="74904"/>
                  </a:lnTo>
                  <a:lnTo>
                    <a:pt x="364145" y="74904"/>
                  </a:lnTo>
                  <a:lnTo>
                    <a:pt x="364145" y="216093"/>
                  </a:lnTo>
                  <a:lnTo>
                    <a:pt x="516462" y="216093"/>
                  </a:lnTo>
                  <a:lnTo>
                    <a:pt x="516462" y="349004"/>
                  </a:lnTo>
                  <a:lnTo>
                    <a:pt x="364145" y="349004"/>
                  </a:lnTo>
                  <a:lnTo>
                    <a:pt x="364145" y="490193"/>
                  </a:lnTo>
                  <a:lnTo>
                    <a:pt x="231234" y="490193"/>
                  </a:lnTo>
                  <a:lnTo>
                    <a:pt x="231234" y="349004"/>
                  </a:lnTo>
                  <a:lnTo>
                    <a:pt x="78917" y="349004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38ff0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3" descr="C:\Documents and Settings\slorentz1\Bureau\c.gif"/>
          <p:cNvPicPr/>
          <p:nvPr/>
        </p:nvPicPr>
        <p:blipFill>
          <a:blip r:embed="rId1"/>
          <a:stretch/>
        </p:blipFill>
        <p:spPr>
          <a:xfrm>
            <a:off x="20520" y="324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C:\Documents and Settings\slorentz1\Bureau\i.gif"/>
          <p:cNvPicPr/>
          <p:nvPr/>
        </p:nvPicPr>
        <p:blipFill>
          <a:blip r:embed="rId2"/>
          <a:stretch/>
        </p:blipFill>
        <p:spPr>
          <a:xfrm>
            <a:off x="539640" y="324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C:\Documents and Settings\slorentz1\Bureau\t.gif"/>
          <p:cNvPicPr/>
          <p:nvPr/>
        </p:nvPicPr>
        <p:blipFill>
          <a:blip r:embed="rId3"/>
          <a:stretch/>
        </p:blipFill>
        <p:spPr>
          <a:xfrm>
            <a:off x="1015920" y="0"/>
            <a:ext cx="476280" cy="714240"/>
          </a:xfrm>
          <a:prstGeom prst="rect">
            <a:avLst/>
          </a:prstGeom>
          <a:ln w="0">
            <a:noFill/>
          </a:ln>
        </p:spPr>
      </p:pic>
      <p:grpSp>
        <p:nvGrpSpPr>
          <p:cNvPr id="148" name="Groupe 74"/>
          <p:cNvGrpSpPr/>
          <p:nvPr/>
        </p:nvGrpSpPr>
        <p:grpSpPr>
          <a:xfrm>
            <a:off x="103320" y="789120"/>
            <a:ext cx="9040680" cy="6068880"/>
            <a:chOff x="103320" y="789120"/>
            <a:chExt cx="9040680" cy="6068880"/>
          </a:xfrm>
        </p:grpSpPr>
        <p:grpSp>
          <p:nvGrpSpPr>
            <p:cNvPr id="149" name="Groupe 38"/>
            <p:cNvGrpSpPr/>
            <p:nvPr/>
          </p:nvGrpSpPr>
          <p:grpSpPr>
            <a:xfrm>
              <a:off x="103320" y="789120"/>
              <a:ext cx="3456000" cy="1005840"/>
              <a:chOff x="103320" y="789120"/>
              <a:chExt cx="3456000" cy="1005840"/>
            </a:xfrm>
          </p:grpSpPr>
          <p:sp>
            <p:nvSpPr>
              <p:cNvPr id="150" name="Plus 39"/>
              <p:cNvSpPr/>
              <p:nvPr/>
            </p:nvSpPr>
            <p:spPr>
              <a:xfrm>
                <a:off x="1041840" y="980640"/>
                <a:ext cx="595800" cy="564120"/>
              </a:xfrm>
              <a:custGeom>
                <a:avLst/>
                <a:gdLst>
                  <a:gd name="textAreaLeft" fmla="*/ 78840 w 595800"/>
                  <a:gd name="textAreaRight" fmla="*/ 516960 w 595800"/>
                  <a:gd name="textAreaTop" fmla="*/ 215640 h 564120"/>
                  <a:gd name="textAreaBottom" fmla="*/ 348480 h 564120"/>
                </a:gdLst>
                <a:ahLst/>
                <a:rect l="textAreaLeft" t="textAreaTop" r="textAreaRight" b="textAreaBottom"/>
                <a:pathLst>
                  <a:path w="596892" h="565157">
                    <a:moveTo>
                      <a:pt x="79118" y="216116"/>
                    </a:moveTo>
                    <a:lnTo>
                      <a:pt x="231984" y="216116"/>
                    </a:lnTo>
                    <a:lnTo>
                      <a:pt x="231984" y="74912"/>
                    </a:lnTo>
                    <a:lnTo>
                      <a:pt x="364908" y="74912"/>
                    </a:lnTo>
                    <a:lnTo>
                      <a:pt x="364908" y="216116"/>
                    </a:lnTo>
                    <a:lnTo>
                      <a:pt x="517774" y="216116"/>
                    </a:lnTo>
                    <a:lnTo>
                      <a:pt x="517774" y="349041"/>
                    </a:lnTo>
                    <a:lnTo>
                      <a:pt x="364908" y="349041"/>
                    </a:lnTo>
                    <a:lnTo>
                      <a:pt x="364908" y="490245"/>
                    </a:lnTo>
                    <a:lnTo>
                      <a:pt x="231984" y="490245"/>
                    </a:lnTo>
                    <a:lnTo>
                      <a:pt x="231984" y="349041"/>
                    </a:lnTo>
                    <a:lnTo>
                      <a:pt x="79118" y="349041"/>
                    </a:lnTo>
                    <a:close/>
                  </a:path>
                </a:pathLst>
              </a:custGeom>
              <a:solidFill>
                <a:srgbClr val="ff0000"/>
              </a:solidFill>
              <a:ln w="25560">
                <a:solidFill>
                  <a:srgbClr val="38ff0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Égal 42"/>
              <p:cNvSpPr/>
              <p:nvPr/>
            </p:nvSpPr>
            <p:spPr>
              <a:xfrm>
                <a:off x="2984040" y="1051920"/>
                <a:ext cx="575280" cy="288360"/>
              </a:xfrm>
              <a:custGeom>
                <a:avLst/>
                <a:gdLst>
                  <a:gd name="textAreaLeft" fmla="*/ 75960 w 575280"/>
                  <a:gd name="textAreaRight" fmla="*/ 499320 w 575280"/>
                  <a:gd name="textAreaTop" fmla="*/ 59400 h 288360"/>
                  <a:gd name="textAreaBottom" fmla="*/ 228960 h 288360"/>
                </a:gdLst>
                <a:ahLst/>
                <a:rect l="textAreaLeft" t="textAreaTop" r="textAreaRight" b="textAreaBottom"/>
                <a:pathLst>
                  <a:path w="576255" h="288929">
                    <a:moveTo>
                      <a:pt x="76383" y="59519"/>
                    </a:moveTo>
                    <a:lnTo>
                      <a:pt x="499872" y="59519"/>
                    </a:lnTo>
                    <a:lnTo>
                      <a:pt x="499872" y="127475"/>
                    </a:lnTo>
                    <a:lnTo>
                      <a:pt x="76383" y="127475"/>
                    </a:lnTo>
                    <a:close/>
                    <a:moveTo>
                      <a:pt x="76383" y="161454"/>
                    </a:moveTo>
                    <a:lnTo>
                      <a:pt x="499872" y="161454"/>
                    </a:lnTo>
                    <a:lnTo>
                      <a:pt x="499872" y="229410"/>
                    </a:lnTo>
                    <a:lnTo>
                      <a:pt x="76383" y="229410"/>
                    </a:lnTo>
                    <a:close/>
                  </a:path>
                </a:pathLst>
              </a:custGeom>
              <a:solidFill>
                <a:srgbClr val="ff0000"/>
              </a:solidFill>
              <a:ln w="25560">
                <a:solidFill>
                  <a:srgbClr val="38ff0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2" name="Image 69" descr=""/>
              <p:cNvPicPr/>
              <p:nvPr/>
            </p:nvPicPr>
            <p:blipFill>
              <a:blip r:embed="rId4"/>
              <a:stretch/>
            </p:blipFill>
            <p:spPr>
              <a:xfrm>
                <a:off x="1717920" y="789120"/>
                <a:ext cx="1079640" cy="982080"/>
              </a:xfrm>
              <a:prstGeom prst="rect">
                <a:avLst/>
              </a:prstGeom>
              <a:ln w="9360">
                <a:solidFill>
                  <a:srgbClr val="38ff09"/>
                </a:solidFill>
                <a:miter/>
              </a:ln>
            </p:spPr>
          </p:pic>
          <p:pic>
            <p:nvPicPr>
              <p:cNvPr id="153" name="Image 64" descr=""/>
              <p:cNvPicPr/>
              <p:nvPr/>
            </p:nvPicPr>
            <p:blipFill>
              <a:blip r:embed="rId5"/>
              <a:stretch/>
            </p:blipFill>
            <p:spPr>
              <a:xfrm>
                <a:off x="103320" y="836640"/>
                <a:ext cx="862920" cy="958320"/>
              </a:xfrm>
              <a:prstGeom prst="rect">
                <a:avLst/>
              </a:prstGeom>
              <a:ln w="9360">
                <a:solidFill>
                  <a:srgbClr val="38ff09"/>
                </a:solidFill>
                <a:miter/>
              </a:ln>
            </p:spPr>
          </p:pic>
        </p:grpSp>
        <p:sp>
          <p:nvSpPr>
            <p:cNvPr id="154" name="Forme libre 45"/>
            <p:cNvSpPr/>
            <p:nvPr/>
          </p:nvSpPr>
          <p:spPr>
            <a:xfrm>
              <a:off x="3101040" y="2375280"/>
              <a:ext cx="3187080" cy="3155040"/>
            </a:xfrm>
            <a:custGeom>
              <a:avLst/>
              <a:gdLst>
                <a:gd name="textAreaLeft" fmla="*/ 0 w 3187080"/>
                <a:gd name="textAreaRight" fmla="*/ 3187440 w 3187080"/>
                <a:gd name="textAreaTop" fmla="*/ 0 h 3155040"/>
                <a:gd name="textAreaBottom" fmla="*/ 3155400 h 3155040"/>
              </a:gdLst>
              <a:ahLst/>
              <a:rect l="textAreaLeft" t="textAreaTop" r="textAreaRight" b="textAreaBottom"/>
              <a:pathLst>
                <a:path w="3191308" h="3161515">
                  <a:moveTo>
                    <a:pt x="2137973" y="235247"/>
                  </a:moveTo>
                  <a:lnTo>
                    <a:pt x="798114" y="0"/>
                  </a:lnTo>
                  <a:lnTo>
                    <a:pt x="0" y="1292260"/>
                  </a:lnTo>
                  <a:lnTo>
                    <a:pt x="1390068" y="2040457"/>
                  </a:lnTo>
                  <a:lnTo>
                    <a:pt x="2184896" y="3161515"/>
                  </a:lnTo>
                  <a:lnTo>
                    <a:pt x="3191308" y="2341671"/>
                  </a:lnTo>
                  <a:lnTo>
                    <a:pt x="2911876" y="1292260"/>
                  </a:lnTo>
                  <a:lnTo>
                    <a:pt x="2911876" y="521063"/>
                  </a:lnTo>
                  <a:lnTo>
                    <a:pt x="2137973" y="235247"/>
                  </a:lnTo>
                  <a:close/>
                </a:path>
              </a:pathLst>
            </a:custGeom>
            <a:solidFill>
              <a:srgbClr val="4f81b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200" rIns="72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ZoneTexte 45"/>
            <p:cNvSpPr/>
            <p:nvPr/>
          </p:nvSpPr>
          <p:spPr>
            <a:xfrm>
              <a:off x="6577560" y="4883760"/>
              <a:ext cx="2157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Loi 4 : accroissement de l’idé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ZoneTexte 46"/>
            <p:cNvSpPr/>
            <p:nvPr/>
          </p:nvSpPr>
          <p:spPr>
            <a:xfrm>
              <a:off x="3916800" y="5602680"/>
              <a:ext cx="3277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Loi 5 : développement inégal des parties du systè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Groupe 64"/>
            <p:cNvGrpSpPr/>
            <p:nvPr/>
          </p:nvGrpSpPr>
          <p:grpSpPr>
            <a:xfrm>
              <a:off x="3368880" y="1796760"/>
              <a:ext cx="3739320" cy="3715920"/>
              <a:chOff x="3368880" y="1796760"/>
              <a:chExt cx="3739320" cy="3715920"/>
            </a:xfrm>
          </p:grpSpPr>
          <p:sp>
            <p:nvSpPr>
              <p:cNvPr id="158" name="Octogone 52"/>
              <p:cNvSpPr/>
              <p:nvPr/>
            </p:nvSpPr>
            <p:spPr>
              <a:xfrm rot="1348800">
                <a:off x="3860280" y="2289240"/>
                <a:ext cx="2748240" cy="2743200"/>
              </a:xfrm>
              <a:prstGeom prst="octagon">
                <a:avLst>
                  <a:gd name="adj" fmla="val 29435"/>
                </a:avLst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" rIns="7200" tIns="7200" bIns="7200" anchor="t">
                <a:noAutofit/>
              </a:bodyPr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Octogone 53"/>
              <p:cNvSpPr/>
              <p:nvPr/>
            </p:nvSpPr>
            <p:spPr>
              <a:xfrm rot="1348800">
                <a:off x="4213080" y="2660400"/>
                <a:ext cx="2014560" cy="2048040"/>
              </a:xfrm>
              <a:prstGeom prst="octagon">
                <a:avLst>
                  <a:gd name="adj" fmla="val 29435"/>
                </a:avLst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" rIns="7200" tIns="7200" bIns="7200" anchor="t">
                <a:noAutofit/>
              </a:bodyPr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Octogone 54"/>
              <p:cNvSpPr/>
              <p:nvPr/>
            </p:nvSpPr>
            <p:spPr>
              <a:xfrm rot="1348800">
                <a:off x="4565880" y="2991600"/>
                <a:ext cx="1346400" cy="1343160"/>
              </a:xfrm>
              <a:prstGeom prst="octagon">
                <a:avLst>
                  <a:gd name="adj" fmla="val 29435"/>
                </a:avLst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" rIns="7200" tIns="7200" bIns="7200" anchor="t">
                <a:noAutofit/>
              </a:bodyPr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Octogone 55"/>
              <p:cNvSpPr/>
              <p:nvPr/>
            </p:nvSpPr>
            <p:spPr>
              <a:xfrm rot="1348800">
                <a:off x="4893480" y="3325680"/>
                <a:ext cx="669240" cy="669600"/>
              </a:xfrm>
              <a:prstGeom prst="octagon">
                <a:avLst>
                  <a:gd name="adj" fmla="val 29435"/>
                </a:avLst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" rIns="7200" tIns="7200" bIns="7200" anchor="t">
                <a:noAutofit/>
              </a:bodyPr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Connecteur droit 57"/>
              <p:cNvSpPr/>
              <p:nvPr/>
            </p:nvSpPr>
            <p:spPr>
              <a:xfrm>
                <a:off x="3908160" y="2342520"/>
                <a:ext cx="2661840" cy="262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Connecteur droit 59"/>
              <p:cNvSpPr/>
              <p:nvPr/>
            </p:nvSpPr>
            <p:spPr>
              <a:xfrm>
                <a:off x="5225400" y="1796760"/>
                <a:ext cx="27360" cy="3715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Connecteur droit 61"/>
              <p:cNvSpPr/>
              <p:nvPr/>
            </p:nvSpPr>
            <p:spPr>
              <a:xfrm flipH="1">
                <a:off x="3915360" y="2349720"/>
                <a:ext cx="2647080" cy="2610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Connecteur droit 63"/>
              <p:cNvSpPr/>
              <p:nvPr/>
            </p:nvSpPr>
            <p:spPr>
              <a:xfrm>
                <a:off x="3368880" y="3643560"/>
                <a:ext cx="3739320" cy="2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ZoneTexte 65"/>
            <p:cNvSpPr/>
            <p:nvPr/>
          </p:nvSpPr>
          <p:spPr>
            <a:xfrm>
              <a:off x="5027040" y="3252960"/>
              <a:ext cx="65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ZoneTexte 66"/>
            <p:cNvSpPr/>
            <p:nvPr/>
          </p:nvSpPr>
          <p:spPr>
            <a:xfrm>
              <a:off x="5027040" y="2968200"/>
              <a:ext cx="65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ZoneTexte 67"/>
            <p:cNvSpPr/>
            <p:nvPr/>
          </p:nvSpPr>
          <p:spPr>
            <a:xfrm>
              <a:off x="5027040" y="2634840"/>
              <a:ext cx="65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ZoneTexte 68"/>
            <p:cNvSpPr/>
            <p:nvPr/>
          </p:nvSpPr>
          <p:spPr>
            <a:xfrm>
              <a:off x="5005440" y="2320920"/>
              <a:ext cx="65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ZoneTexte 69"/>
            <p:cNvSpPr/>
            <p:nvPr/>
          </p:nvSpPr>
          <p:spPr>
            <a:xfrm>
              <a:off x="4994640" y="1915560"/>
              <a:ext cx="65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ctogone 52"/>
            <p:cNvSpPr/>
            <p:nvPr/>
          </p:nvSpPr>
          <p:spPr>
            <a:xfrm rot="1348800">
              <a:off x="3506760" y="1943280"/>
              <a:ext cx="3463560" cy="3423240"/>
            </a:xfrm>
            <a:prstGeom prst="octagon">
              <a:avLst>
                <a:gd name="adj" fmla="val 29435"/>
              </a:avLst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200" rIns="7200" tIns="7200" bIns="7200" anchor="t">
              <a:no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ZoneTexte 69"/>
            <p:cNvSpPr/>
            <p:nvPr/>
          </p:nvSpPr>
          <p:spPr>
            <a:xfrm>
              <a:off x="5006160" y="1517400"/>
              <a:ext cx="65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ZoneTexte 43"/>
            <p:cNvSpPr/>
            <p:nvPr/>
          </p:nvSpPr>
          <p:spPr>
            <a:xfrm>
              <a:off x="6507720" y="1770840"/>
              <a:ext cx="2119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0000"/>
                  </a:solidFill>
                  <a:latin typeface="Calibri"/>
                </a:rPr>
                <a:t>Loi 2 : conductibilité énergétiq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ZoneTexte 44"/>
            <p:cNvSpPr/>
            <p:nvPr/>
          </p:nvSpPr>
          <p:spPr>
            <a:xfrm>
              <a:off x="7083000" y="3136320"/>
              <a:ext cx="2005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0000"/>
                  </a:solidFill>
                  <a:latin typeface="Calibri"/>
                </a:rPr>
                <a:t>Loi 3 : coordination du rythme des parti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ZoneTexte 48"/>
            <p:cNvSpPr/>
            <p:nvPr/>
          </p:nvSpPr>
          <p:spPr>
            <a:xfrm>
              <a:off x="1336320" y="3353760"/>
              <a:ext cx="2078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Loi 7 : transition vers le micro-nivea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ZoneTexte 49"/>
            <p:cNvSpPr/>
            <p:nvPr/>
          </p:nvSpPr>
          <p:spPr>
            <a:xfrm>
              <a:off x="4290480" y="1052280"/>
              <a:ext cx="2360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0000"/>
                  </a:solidFill>
                  <a:latin typeface="Calibri"/>
                </a:rPr>
                <a:t>Loi 1 : intégralité des parties du systè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ZoneTexte 50"/>
            <p:cNvSpPr/>
            <p:nvPr/>
          </p:nvSpPr>
          <p:spPr>
            <a:xfrm>
              <a:off x="1932840" y="1842840"/>
              <a:ext cx="2632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Loi 8 : accroissement du dynamisme et de la contrôlabilit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ZoneTexte 75"/>
            <p:cNvSpPr/>
            <p:nvPr/>
          </p:nvSpPr>
          <p:spPr>
            <a:xfrm>
              <a:off x="1923840" y="4862880"/>
              <a:ext cx="2210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Loi 6 : transition vers le super-systè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ZoneTexte 73"/>
            <p:cNvGrpSpPr/>
            <p:nvPr/>
          </p:nvGrpSpPr>
          <p:grpSpPr>
            <a:xfrm>
              <a:off x="6635880" y="5909040"/>
              <a:ext cx="2508120" cy="948960"/>
              <a:chOff x="6635880" y="5909040"/>
              <a:chExt cx="2508120" cy="948960"/>
            </a:xfrm>
          </p:grpSpPr>
          <p:pic>
            <p:nvPicPr>
              <p:cNvPr id="180" name="ZoneTexte 73" descr=""/>
              <p:cNvPicPr/>
              <p:nvPr/>
            </p:nvPicPr>
            <p:blipFill>
              <a:blip r:embed="rId6"/>
              <a:stretch/>
            </p:blipFill>
            <p:spPr>
              <a:xfrm>
                <a:off x="6635880" y="5909040"/>
                <a:ext cx="2508120" cy="94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1" name=""/>
              <p:cNvSpPr/>
              <p:nvPr/>
            </p:nvSpPr>
            <p:spPr>
              <a:xfrm>
                <a:off x="6651360" y="5924160"/>
                <a:ext cx="24807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1800" spc="-1" strike="noStrike">
                    <a:solidFill>
                      <a:srgbClr val="ff0000"/>
                    </a:solidFill>
                    <a:latin typeface="Calibri"/>
                  </a:rPr>
                  <a:t>Rouge</a:t>
                </a:r>
                <a:r>
                  <a:rPr b="0" lang="fr-FR" sz="1800" spc="-1" strike="noStrike">
                    <a:solidFill>
                      <a:srgbClr val="000000"/>
                    </a:solidFill>
                    <a:latin typeface="Calibri"/>
                  </a:rPr>
                  <a:t> </a:t>
                </a:r>
                <a:r>
                  <a:rPr b="0" lang="fr-FR" sz="1800" spc="-1" strike="noStrike">
                    <a:solidFill>
                      <a:srgbClr val="ff0000"/>
                    </a:solidFill>
                    <a:latin typeface="Calibri"/>
                  </a:rPr>
                  <a:t>: lois statiqu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1800" spc="-1" strike="noStrike">
                    <a:solidFill>
                      <a:srgbClr val="ffffff"/>
                    </a:solidFill>
                    <a:latin typeface="Calibri"/>
                  </a:rPr>
                  <a:t>Blanc</a:t>
                </a:r>
                <a:r>
                  <a:rPr b="0" lang="fr-FR" sz="1800" spc="-1" strike="noStrike">
                    <a:solidFill>
                      <a:srgbClr val="000000"/>
                    </a:solidFill>
                    <a:latin typeface="Calibri"/>
                  </a:rPr>
                  <a:t> </a:t>
                </a:r>
                <a:r>
                  <a:rPr b="0" lang="fr-FR" sz="1800" spc="-1" strike="noStrike">
                    <a:solidFill>
                      <a:srgbClr val="ffffff"/>
                    </a:solidFill>
                    <a:latin typeface="Calibri"/>
                  </a:rPr>
                  <a:t>: lois cinématiqu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1800" spc="-1" strike="noStrike">
                    <a:solidFill>
                      <a:srgbClr val="000000"/>
                    </a:solidFill>
                    <a:latin typeface="Calibri"/>
                  </a:rPr>
                  <a:t>Vert</a:t>
                </a:r>
                <a:r>
                  <a:rPr b="0" lang="fr-FR" sz="1800" spc="-1" strike="noStrike">
                    <a:solidFill>
                      <a:srgbClr val="000000"/>
                    </a:solidFill>
                    <a:latin typeface="Calibri"/>
                  </a:rPr>
                  <a:t> </a:t>
                </a:r>
                <a:r>
                  <a:rPr b="0" lang="fr-FR" sz="1800" spc="-1" strike="noStrike">
                    <a:solidFill>
                      <a:srgbClr val="000000"/>
                    </a:solidFill>
                    <a:latin typeface="Calibri"/>
                  </a:rPr>
                  <a:t>: lois dynamiqu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ZoneTexte 3"/>
          <p:cNvSpPr/>
          <p:nvPr/>
        </p:nvSpPr>
        <p:spPr>
          <a:xfrm>
            <a:off x="2643120" y="2766960"/>
            <a:ext cx="3857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ffffff"/>
                </a:solidFill>
                <a:latin typeface="Calibri"/>
              </a:rPr>
              <a:t>THE END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3"/>
          <p:cNvSpPr/>
          <p:nvPr/>
        </p:nvSpPr>
        <p:spPr>
          <a:xfrm>
            <a:off x="5925960" y="3314880"/>
            <a:ext cx="216000" cy="260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" descr="C:\Documents and Settings\Sébastien\Bureau\Sans titre.gif"/>
          <p:cNvPicPr/>
          <p:nvPr/>
        </p:nvPicPr>
        <p:blipFill>
          <a:blip r:embed="rId1"/>
          <a:stretch/>
        </p:blipFill>
        <p:spPr>
          <a:xfrm>
            <a:off x="2843280" y="-774720"/>
            <a:ext cx="3457440" cy="7747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path" presetID="42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 1.48148E-006 L 0 0.66157 E">
                                      <p:cBhvr>
                                        <p:cTn id="40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.66157 L 0 1.13403 E">
                                      <p:cBhvr>
                                        <p:cTn id="45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7T17:01:16Z</dcterms:created>
  <dc:creator>Jeux</dc:creator>
  <dc:description/>
  <dc:language>en-US</dc:language>
  <cp:lastModifiedBy>Seblor</cp:lastModifiedBy>
  <dcterms:modified xsi:type="dcterms:W3CDTF">2011-02-21T18:15:46Z</dcterms:modified>
  <cp:revision>96</cp:revision>
  <dc:subject/>
  <dc:title>Diapositive 1</dc:title>
</cp:coreProperties>
</file>